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1451"/>
        <c:axId val="56963941"/>
      </c:barChart>
      <c:catAx>
        <c:axId val="8851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3941"/>
        <c:crosses val="autoZero"/>
        <c:auto val="1"/>
        <c:lblAlgn val="ctr"/>
        <c:lblOffset val="100"/>
        <c:noMultiLvlLbl val="0"/>
      </c:catAx>
      <c:valAx>
        <c:axId val="56963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1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711-76A6-4594-95DC-65B78CBB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80B-369D-4376-90A2-4D93DD9E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B56-78A3-47BE-99CF-63B414C1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DD7-2FCC-4CCD-90C1-7F49DA1D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4E5-417D-4D30-829B-EAF5778F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D19-B5A8-4D6E-9733-F682B46D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781-6649-4BC6-968E-8161F96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E38-99BB-4D8A-BE94-6A892F1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FC9-C1DD-4979-B8FC-8EC2563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618-7AD4-4E86-96ED-AA2393B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329-0598-4DAE-A012-9228E0F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C9B-7704-4EC3-91B7-DAA5ACF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F72F4-311C-446E-AE00-4397A13ADD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