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11966"/>
        <c:axId val="93992808"/>
      </c:barChart>
      <c:catAx>
        <c:axId val="61311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92808"/>
        <c:crosses val="autoZero"/>
        <c:auto val="1"/>
        <c:lblAlgn val="ctr"/>
        <c:lblOffset val="100"/>
        <c:noMultiLvlLbl val="0"/>
      </c:catAx>
      <c:valAx>
        <c:axId val="93992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11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215-55D1-4CC4-AD33-674A9AC4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C80-16E7-410C-90C3-05E4B700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865-C436-4D4C-9764-F8F76BA7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266-5F63-43ED-A85B-0D9A2C8C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172-FAE3-48CC-9795-BB494791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D46-6209-4220-9170-316CDEB8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356-3DB9-44C4-AA62-90297D9A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E1B-B330-439C-82A3-89D0CE65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045-4A2B-4816-B386-3B16ACA0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DD5-9761-4ADB-91CC-528DD84E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0D4-9F53-433D-8D92-DD184CE8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DBE-8FDF-492F-BDA3-F4DA3431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5A3B3-E5D0-49EC-924B-E852CC6812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