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2619"/>
        <c:axId val="95225297"/>
      </c:barChart>
      <c:catAx>
        <c:axId val="9202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25297"/>
        <c:crosses val="autoZero"/>
        <c:auto val="1"/>
        <c:lblAlgn val="ctr"/>
        <c:lblOffset val="100"/>
        <c:noMultiLvlLbl val="0"/>
      </c:catAx>
      <c:valAx>
        <c:axId val="95225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2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59D5-CC94-44D1-AF32-62CEB11D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FB4-AF07-44E7-AE22-776941D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E27-BD20-44E6-A074-90E386EC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010-AF22-425A-BC11-382F26E5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F1A-B564-4825-BA33-22349F70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C06-632F-4D5F-AFAB-EA88138E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4E4-8F01-4B28-A462-DE4B8977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A0F-19F6-40FD-96E3-6C4CFE5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1B8E-813C-44E9-8512-B5D6F8DE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AB3B-527F-41F2-AF49-D83162A1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574-FA19-4C9D-9A0A-0F24A2F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61B-402B-4D61-8653-4C90C52F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E2F35-49CD-4BC3-A245-7A922FDCC2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