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51747"/>
        <c:axId val="47666655"/>
      </c:barChart>
      <c:catAx>
        <c:axId val="30251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66655"/>
        <c:crosses val="autoZero"/>
        <c:auto val="1"/>
        <c:lblAlgn val="ctr"/>
        <c:lblOffset val="100"/>
        <c:noMultiLvlLbl val="0"/>
      </c:catAx>
      <c:valAx>
        <c:axId val="47666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51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2AB-8E54-4356-8D95-88217E6E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E9A-1B43-4C1E-A8FF-6875AC1F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214-C2DD-4BB8-8F4B-6F66C064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18E-554F-4818-9211-7B36BFE7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E69-32B1-4CC8-81BE-E6C4B999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830-F66D-4491-91EA-C99C2FB1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942-4089-4D25-93A1-52BB8B14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EA3-C9D0-4F79-9C98-DE9C44D6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58C-4048-42B0-8383-FA7A76B4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3D0-9B3B-449B-B2B5-E8B93106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097-80DF-4CB7-8321-1838A9C2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359-C630-44AC-95F8-9090987B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6DEAF-E253-41FE-B111-7FAF1E090D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