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00690"/>
        <c:axId val="22707173"/>
      </c:barChart>
      <c:catAx>
        <c:axId val="81200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07173"/>
        <c:crosses val="autoZero"/>
        <c:auto val="1"/>
        <c:lblAlgn val="ctr"/>
        <c:lblOffset val="100"/>
        <c:noMultiLvlLbl val="0"/>
      </c:catAx>
      <c:valAx>
        <c:axId val="22707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00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9BA-89CF-4190-A20E-C8D42307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F26-2B17-4F50-AC99-44765E11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7D5-540B-44A3-9FC0-C32E45CD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01F-4D40-44FB-9CB9-32058B3D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C4C-2C24-4899-8D7C-D3D1D7F1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7D9-08BB-4FA4-8089-90D80741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DDB-276F-4C30-AFEB-232E3D4E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DDD-A789-4D0E-BB92-2CBA3563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94B-9991-4252-919C-4E9A7CC1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F26-FAF7-4311-9505-99C3CB0D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46D-625C-4F38-AC8A-955740FE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96B-0082-4A46-9976-7D1B1464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EC4F3-0016-41D8-861F-EB350E3CD9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