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40715"/>
        <c:axId val="46018162"/>
      </c:barChart>
      <c:catAx>
        <c:axId val="91240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18162"/>
        <c:crosses val="autoZero"/>
        <c:auto val="1"/>
        <c:lblAlgn val="ctr"/>
        <c:lblOffset val="100"/>
        <c:noMultiLvlLbl val="0"/>
      </c:catAx>
      <c:valAx>
        <c:axId val="460181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0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1DE-CCBA-4608-89E1-DE7D989B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B95-CCA3-452B-9EEE-4F952F68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AFA-E4D1-44B7-B778-F2923CFF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508-989E-4E98-8D8C-86EDA3CA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C91-544D-4959-9563-B7B5CB98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764-7E7E-4342-BD67-E86F72F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C1B-C4A4-46F3-BE2D-32FCDFDD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121-FD73-4256-9C6A-64D7695F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1FB-01B7-4711-B04B-55281EEA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86F-FDB2-4FBA-A5F2-55FBB13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37C-E733-4375-A594-CA29960B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88D-CF88-49EC-8C38-96DECE6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A4C07-52AF-4086-8ACC-077675124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