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13870"/>
        <c:axId val="42811301"/>
      </c:barChart>
      <c:catAx>
        <c:axId val="70013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11301"/>
        <c:crosses val="autoZero"/>
        <c:auto val="1"/>
        <c:lblAlgn val="ctr"/>
        <c:lblOffset val="100"/>
        <c:noMultiLvlLbl val="0"/>
      </c:catAx>
      <c:valAx>
        <c:axId val="42811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13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802-8EF2-4853-A211-B175DD35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F94-8173-4401-89D6-E184DCC0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95C-7065-4ADD-BF65-4094E54C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294-C1D0-444B-BC78-67419854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572-4C92-4977-9325-440C6F71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7D1-256F-4029-9D11-30142EE5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1F1-3A11-4D1B-A5AE-8D08C754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7D7-80E1-4A99-95CB-E4D8BB21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776-7384-4BE2-A68F-43F10FF8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5DC-40DF-4B57-B10E-4E5095F7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6EF-5D32-438E-80D1-4C48B93C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A6F-1CE9-40DF-92F4-9CA4E7C6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4B5D1-4A39-408B-A07D-A44ED12CD4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