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0601"/>
        <c:axId val="73420754"/>
      </c:barChart>
      <c:catAx>
        <c:axId val="8960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20754"/>
        <c:crosses val="autoZero"/>
        <c:auto val="1"/>
        <c:lblAlgn val="ctr"/>
        <c:lblOffset val="100"/>
        <c:noMultiLvlLbl val="0"/>
      </c:catAx>
      <c:valAx>
        <c:axId val="73420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0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6FC-9AE5-407F-A403-E7269F81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2A6-31F7-4BA6-89A8-47D575A7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107-9253-40A1-A8A2-F6388AA4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E4B-0915-4118-A2A8-4F12FA22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FAE-0788-47F5-8BC4-684EAE6A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864-ABB5-4FDD-A602-8E42F126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980-00B4-41BE-B52C-CBDC704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435-292A-44F0-AE57-5821504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B34-A3D1-44DA-80CF-F38E704B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01D-FC6E-46ED-ACB6-E6353DE3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5AF-8D4D-4CAE-9DCB-851B783B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1C1-47B1-42E1-B2BF-A6E2E28D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82D40-A1EA-4E8F-A00B-7B1759006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