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41718"/>
        <c:axId val="37102272"/>
      </c:barChart>
      <c:catAx>
        <c:axId val="95041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02272"/>
        <c:crosses val="autoZero"/>
        <c:auto val="1"/>
        <c:lblAlgn val="ctr"/>
        <c:lblOffset val="100"/>
        <c:noMultiLvlLbl val="0"/>
      </c:catAx>
      <c:valAx>
        <c:axId val="37102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41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B4A-4CB8-4950-8F51-ADBC2E54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32A-053B-4AC8-AFD2-EA7663A8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087-9CD9-4CFE-9989-3E9F90F7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3EA-1BC2-465D-9A44-C4C3743A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37B-6A2A-422D-872C-D1397939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E37-6226-4ECB-9F63-4ACDBDA3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78E-AEB6-400D-82E1-626536B7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A2E-4E69-418A-B7DA-691D0239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7EC-5CC1-4CB3-9BA3-1F808733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097-BF9B-4F8E-B030-558502BA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0C5-7664-438B-994E-35DD4EC4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C1D-F7F4-4BBD-98A8-D704D76D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59F56-480D-422D-9F93-42C4E73D1A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