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4594"/>
        <c:axId val="99242492"/>
      </c:barChart>
      <c:catAx>
        <c:axId val="3044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42492"/>
        <c:crosses val="autoZero"/>
        <c:auto val="1"/>
        <c:lblAlgn val="ctr"/>
        <c:lblOffset val="100"/>
        <c:noMultiLvlLbl val="0"/>
      </c:catAx>
      <c:valAx>
        <c:axId val="99242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4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673-9BE0-406E-9142-CA961FD8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6D3-736C-4DD4-AD04-0B41EFF5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95B-06F8-4AB0-B988-F373ADBE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C81-974F-42BB-8254-CBA190CC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EFC-D1C9-4AC9-BD55-B6595AD4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DCE-4C76-4F94-964A-53B82DD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229-1887-4F1A-841E-E87BCABF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5C3-7543-41C6-B0AF-E14C1130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129-49A7-4E4B-8561-DF1C9F21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A85-A057-4CA1-859A-9AF8ED6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AF1-71A5-45E3-87B0-31462790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CCE-68E3-47D6-95CD-8D29CDD6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850F9-E0CF-49EE-B82E-E3EFA9AA7B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