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02102"/>
        <c:axId val="62969875"/>
      </c:barChart>
      <c:catAx>
        <c:axId val="76102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69875"/>
        <c:crosses val="autoZero"/>
        <c:auto val="1"/>
        <c:lblAlgn val="ctr"/>
        <c:lblOffset val="100"/>
        <c:noMultiLvlLbl val="0"/>
      </c:catAx>
      <c:valAx>
        <c:axId val="62969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02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248-4C24-4AF9-829A-683757F9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9C7-A63F-4218-8F07-9F2EED65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C89-80D9-42EA-AAB6-9D526EA8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973-5284-4F9E-9EBB-DEDB42D0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DD3-C4B6-41D8-A616-22FB96D5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B54-ADCF-42DC-BC04-541232E6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1E7-8186-4778-B5E6-563C0127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F37-D42B-478D-97A1-4709F649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EC6-0CEE-44EB-9E27-C5EF79C6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A9D-6BBD-43EB-9B42-1AE6E8FF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D41-C358-4E99-B37C-13CC6A2E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15D-214B-4E25-A8C1-83313B3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19E5A-AE45-404C-9BEB-8DE2994518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