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04367"/>
        <c:axId val="12606602"/>
      </c:barChart>
      <c:catAx>
        <c:axId val="13404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06602"/>
        <c:crosses val="autoZero"/>
        <c:auto val="1"/>
        <c:lblAlgn val="ctr"/>
        <c:lblOffset val="100"/>
        <c:noMultiLvlLbl val="0"/>
      </c:catAx>
      <c:valAx>
        <c:axId val="12606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04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06F-53A9-47FF-9679-007F94CF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323-7F78-492C-BD78-E35F2911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F14-1061-4313-ACEA-C3EE72DA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DFC-1422-4808-835C-7993B8ED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1F2-F294-497C-92DD-97EF1E93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27B-8489-44F3-BAB5-9143E55E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A97-AC1E-466D-8DF9-1D1F180A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DE9-CE34-4C5B-8DEC-35B97663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17E-E582-4DBF-9C96-879221AC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85E-5ADC-449C-8AB5-35DDD71B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C89-6253-46C3-97E5-066A3AA2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B704-96A8-4358-85E3-EC328606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5B4DE-B94A-4D71-AA77-6E64673D91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