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36392"/>
        <c:axId val="73832353"/>
      </c:barChart>
      <c:catAx>
        <c:axId val="29536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32353"/>
        <c:crosses val="autoZero"/>
        <c:auto val="1"/>
        <c:lblAlgn val="ctr"/>
        <c:lblOffset val="100"/>
        <c:noMultiLvlLbl val="0"/>
      </c:catAx>
      <c:valAx>
        <c:axId val="73832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36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D7D-88FF-41C6-990E-FAC471F8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1D0-155D-4FB5-B424-B460EFE3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549-81E0-4109-AE94-EB74C8EC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4D9-F1A5-4160-BDEA-08EF8CB6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0F7-7C4C-496B-9613-6F650EF0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37F-18ED-4B32-AF0B-70F4A989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483-C0B6-4B29-9ADA-C5B2E589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05B-E0D4-4A89-B121-405FB4FE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4A4-B4A3-42AF-BFC6-45B4BE0D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1AA-D0B0-41CD-BE06-FA28665A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50A-093A-4044-A5AC-39ADED2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FFE-FE77-4E9A-928E-B714C6AA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6DFCE-A027-4E7E-99DC-A2BE3EBA59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