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67202"/>
        <c:axId val="62690491"/>
      </c:barChart>
      <c:catAx>
        <c:axId val="57467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90491"/>
        <c:crosses val="autoZero"/>
        <c:auto val="1"/>
        <c:lblAlgn val="ctr"/>
        <c:lblOffset val="100"/>
        <c:noMultiLvlLbl val="0"/>
      </c:catAx>
      <c:valAx>
        <c:axId val="626904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67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D45-7F31-4CDC-80F2-DDC5AC99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25A-D2CE-4777-A4B9-79976107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0FE-F199-4E6F-B320-0389BD52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30C-D6B3-4D44-BE0B-AB6A17CE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7EF-693F-4CA0-B40E-C933F430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6FC-49F3-451D-9C71-56889BB2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16E-628E-497D-AE29-E3478326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C90-B1E4-4E0B-A95F-70DB2A26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1B9-9434-4DF3-B618-510289C3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9A0-57C1-4B13-9A6A-F17C2DD0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BF8-3A65-424C-ABBC-B7303B4E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9AE9-C4F1-4A43-8987-573CE622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292F3-4852-45BC-B116-C678941CA7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