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28806"/>
        <c:axId val="37429562"/>
      </c:barChart>
      <c:catAx>
        <c:axId val="94928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9562"/>
        <c:crosses val="autoZero"/>
        <c:auto val="1"/>
        <c:lblAlgn val="ctr"/>
        <c:lblOffset val="100"/>
        <c:noMultiLvlLbl val="0"/>
      </c:catAx>
      <c:valAx>
        <c:axId val="37429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8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A38-51C9-41AA-94AF-EFF4C865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B04-4601-42F5-BD21-14E5AA71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8FA-47C0-429F-964D-AD5B1387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16F-4C4A-4A4C-91C3-AD24CFCF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D63-B3CC-422D-A55D-7AA1E68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8B3-F8C1-4664-9666-EA2FEDC2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242-BECF-4D4B-B6CC-9A3DAE1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68E-2BDE-4FEB-A699-4AB99A4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3FF-EC33-4A3A-BDE9-76DC91F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A1C-1E9D-45D1-9D1A-CA60FA6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6BE-4AEA-4D48-B906-A8601BA1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E6D-7285-4469-B8DA-46AD40E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09B9C-6D9B-4383-8A39-36F8598F54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