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10760"/>
        <c:axId val="80272810"/>
      </c:barChart>
      <c:catAx>
        <c:axId val="20710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72810"/>
        <c:crosses val="autoZero"/>
        <c:auto val="1"/>
        <c:lblAlgn val="ctr"/>
        <c:lblOffset val="100"/>
        <c:noMultiLvlLbl val="0"/>
      </c:catAx>
      <c:valAx>
        <c:axId val="80272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10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E6B-201E-4F07-A6F0-C2DEB171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78E-8EDB-4BCD-A84E-62F41579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9CA-2CB2-48A7-A9FB-6EF1E09A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7AF5-EE3A-45B5-B0ED-D84245C6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224-FE12-4014-B2FE-3665DE9E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337-7DCA-4E2E-A028-45F444A6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177-E219-4D49-A6F3-6323B904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0CF-4F37-4DE6-A30C-FAAAE363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2CB-2FC1-4385-83C4-699A31E7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DFC-70BD-4086-8A47-642DC6D1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3E9-1A4E-4E1E-BC6F-DC6E1137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CD6-2750-42EE-855F-3CE1C197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6325F-62DE-4863-B849-9392EEB593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