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35274"/>
        <c:axId val="61320972"/>
      </c:barChart>
      <c:catAx>
        <c:axId val="98635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20972"/>
        <c:crosses val="autoZero"/>
        <c:auto val="1"/>
        <c:lblAlgn val="ctr"/>
        <c:lblOffset val="100"/>
        <c:noMultiLvlLbl val="0"/>
      </c:catAx>
      <c:valAx>
        <c:axId val="61320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35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AAB-DA99-4152-A40A-B8E497B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CD9-7DA0-4591-B893-B2F53D1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ECB-B681-4D4A-8FA2-5801D064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2D9-2405-410D-9BBB-79F9E63D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7F5-05E1-41F4-A5E1-68ABE11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1A4-BE88-469F-A6F6-8F97A55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23-B494-4E1D-9E55-AB0CA79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84C-E3B4-424C-8D01-EC92373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580-9784-4218-827D-A4027D4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DBF-D2EF-418A-BF9A-75E56F6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4A2-E36F-4046-9010-05C4738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117-0180-447A-AF87-D87E4AD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7E80B-C992-4221-B7EF-C85229295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