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97244"/>
        <c:axId val="78393410"/>
      </c:barChart>
      <c:catAx>
        <c:axId val="67097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93410"/>
        <c:crosses val="autoZero"/>
        <c:auto val="1"/>
        <c:lblAlgn val="ctr"/>
        <c:lblOffset val="100"/>
        <c:noMultiLvlLbl val="0"/>
      </c:catAx>
      <c:valAx>
        <c:axId val="78393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7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F51-77C1-4E10-99ED-E0F3180E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CE8-099B-430F-A080-89D5277F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709-F0F2-4FBD-8900-A88D432A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1E6-286B-4FFF-B30A-2A16E86C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4F9-3326-442F-ACF3-E854A68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C29-63C7-4A41-8B68-3E13A82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EFD-0248-4C85-8559-D5AD776D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29B-A63B-4709-B9E1-7E7453F3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4D4-1228-4830-8F08-EBC4A448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AFD-9735-4058-931C-AE56533B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A9A-8506-4A06-BB7C-6A6DD856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44F-0093-4CD1-B80A-A5F7324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FB39E-4BBF-4197-BA61-8A4867E59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