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70382"/>
        <c:axId val="25339568"/>
      </c:barChart>
      <c:catAx>
        <c:axId val="19470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39568"/>
        <c:crosses val="autoZero"/>
        <c:auto val="1"/>
        <c:lblAlgn val="ctr"/>
        <c:lblOffset val="100"/>
        <c:noMultiLvlLbl val="0"/>
      </c:catAx>
      <c:valAx>
        <c:axId val="25339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70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738-F52D-49E0-B4A2-C99186E1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A87-14A2-4C19-8846-A5F1CE82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693-9A9E-4611-A31C-E5B47CCB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DF9-BEDF-4189-A8B6-5BA25F5C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833-F53B-44A5-B711-2595EA86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510-C445-4644-886B-52C556C2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B10-C424-444E-9E12-E1F967C6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11C-EEA3-4AB4-8473-0672932B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60B-0293-4C3E-BC10-188B9832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AD5-8DB5-41ED-9C1F-CF1F767F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86D6-7796-49B8-9E5D-1343DF87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C8B-E100-47EC-A733-ED7628F7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927FC-46E3-45B3-87B6-27B9EA2790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