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636287"/>
        <c:axId val="93846467"/>
      </c:barChart>
      <c:catAx>
        <c:axId val="426362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846467"/>
        <c:crosses val="autoZero"/>
        <c:auto val="1"/>
        <c:lblAlgn val="ctr"/>
        <c:lblOffset val="100"/>
        <c:noMultiLvlLbl val="0"/>
      </c:catAx>
      <c:valAx>
        <c:axId val="938464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362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3EC5-8D3D-40DA-BB0A-454E0D0AB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106F-C5E9-4C48-B7F4-E1A18A55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997F-2BB2-40D6-97E0-DFCFDE4F3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DE7C-F1E0-458A-89A4-502C54CEB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EE61-1E13-4B03-BB85-AF230276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0E9D-3804-4B6C-9943-600F4AC4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C90B-262B-4D55-85E6-656F9651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303A-3FFA-4B78-ACC2-7DD4A565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6AF0-66DD-48C1-9A1B-3990D933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3979-5043-4F8A-9386-3D4DE647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D888-C546-4594-B984-37432E2B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31E4-AF82-4DCF-A97A-3935D6E7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12F9B-61B5-431B-87D2-05D832985C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