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866753"/>
        <c:axId val="28611121"/>
      </c:barChart>
      <c:catAx>
        <c:axId val="91866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11121"/>
        <c:crosses val="autoZero"/>
        <c:auto val="1"/>
        <c:lblAlgn val="ctr"/>
        <c:lblOffset val="100"/>
        <c:noMultiLvlLbl val="0"/>
      </c:catAx>
      <c:valAx>
        <c:axId val="28611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66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4FF-D30F-4B0E-B34A-8438F69D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800-4B51-4559-8E67-B41B71D7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1A5-934D-4164-ACDA-1187A69B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EEF-DE3A-4F0C-B10E-947B668F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352-833C-418C-AAB0-0F18F587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C76-2A5E-4F9E-8F83-6CBFED36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3EF4-AA6C-4D06-BCF3-B50A1D58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1A9-4836-4C91-8BCD-7DB30EFE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FC2-2A14-4A8A-A8D9-5BB1371C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8765-0FB8-449F-BBEE-1891079C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B226-E980-4139-8104-76977AE8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AFD-625F-424A-AD31-F89B5F00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F3AEF-A3BD-47A1-A6D5-671B33D300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