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46110"/>
        <c:axId val="5786641"/>
      </c:barChart>
      <c:catAx>
        <c:axId val="12846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6641"/>
        <c:crosses val="autoZero"/>
        <c:auto val="1"/>
        <c:lblAlgn val="ctr"/>
        <c:lblOffset val="100"/>
        <c:noMultiLvlLbl val="0"/>
      </c:catAx>
      <c:valAx>
        <c:axId val="5786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46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0E3-C884-4772-A47A-D48646E0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0D0-675F-4D03-82D9-9D56C080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658-8557-4B1F-A1DC-67E3F69E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CFC-FFAB-4AF3-8E1A-DCD5CB59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728-4F35-4B14-B682-57541A58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42B-5929-4819-9ECB-DE99C0DC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093-9B22-441C-8E0A-EEBB2354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595-B0CB-4F19-8811-6ED428F1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623-A903-4A79-AC63-5A8B20A9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011-D0C6-4F8B-8E60-DDDCF4AA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1E8-22B0-41ED-9821-CAA01335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749-5196-4222-97D8-F3E7143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9FAC5-B6E9-4EC0-9A16-3208A109F9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