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45957"/>
        <c:axId val="82452000"/>
      </c:barChart>
      <c:catAx>
        <c:axId val="95245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2000"/>
        <c:crosses val="autoZero"/>
        <c:auto val="1"/>
        <c:lblAlgn val="ctr"/>
        <c:lblOffset val="100"/>
        <c:noMultiLvlLbl val="0"/>
      </c:catAx>
      <c:valAx>
        <c:axId val="82452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5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785-2DA9-4124-AB52-748F1195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BF3-3420-456E-A2D1-DCE052D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B37-7409-4355-8474-40D4DE7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9AD-9C25-47DD-9D9C-8B253BD1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89A-D8DA-4D9C-8303-7903AE3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D8E-DE1E-4218-972F-C820EBE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AA7-DF23-4BB9-A724-E5F92F7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213-10A9-4338-9D63-F6CCAE8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506-D138-4BA4-87A5-5408B9E0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AB1-59DE-4F70-B38A-46F89A5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8E5-2C11-43CC-BA84-F1FE2C4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1AC-EA4B-41B0-B741-1847C75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7AF82-09EB-4F9A-AEB6-1B5BE62FD5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