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27351"/>
        <c:axId val="50868790"/>
      </c:barChart>
      <c:catAx>
        <c:axId val="96327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68790"/>
        <c:crosses val="autoZero"/>
        <c:auto val="1"/>
        <c:lblAlgn val="ctr"/>
        <c:lblOffset val="100"/>
        <c:noMultiLvlLbl val="0"/>
      </c:catAx>
      <c:valAx>
        <c:axId val="50868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27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D65-0517-4D96-B018-74775A64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D5D-79C6-4080-A6D2-FB02056B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160-DC36-4048-BDD1-7690BF93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6E4-67F0-4FF2-B216-0FC6160C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590-8080-49BD-BB0C-795A61C3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4B7-63AF-4B44-951A-36127893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42D-55B0-4048-A1BB-6C7615F2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ABC-554D-45EF-B337-CE6941E7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5D7-5FC2-419F-A97E-CB52DA5F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E53-E661-4C25-A429-3751E762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05D-0E14-4A21-9311-429C2E7A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8BB-86F3-40BB-BA09-5EFDAD4E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50CF7-CA63-4020-86C2-87DD556FBC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