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07724"/>
        <c:axId val="42611022"/>
      </c:barChart>
      <c:catAx>
        <c:axId val="14807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11022"/>
        <c:crosses val="autoZero"/>
        <c:auto val="1"/>
        <c:lblAlgn val="ctr"/>
        <c:lblOffset val="100"/>
        <c:noMultiLvlLbl val="0"/>
      </c:catAx>
      <c:valAx>
        <c:axId val="42611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7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C0F-CE5E-4FB4-BA33-E0134311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5C8-EE25-4BBE-8B43-394572BF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909-9B63-47B0-B699-1C50B536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515-EA8F-41C1-9659-A541B989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B9D-61D5-43E2-A9F9-D23BE88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DB7-A881-45FD-B1E5-F273F142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9D2-0A63-4843-A853-FBA61491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087-5EDA-4B50-951C-4EB098AE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942-996A-41C1-9A3E-DEE7F040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C2C-3ABB-4827-A4D7-78D9D044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263-386F-4701-8323-17E2DBC5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5B8-9886-4EA4-B245-7BFCCCB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A27FE-1413-4004-A98A-D6EEB10C82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