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88705"/>
        <c:axId val="6793072"/>
      </c:barChart>
      <c:catAx>
        <c:axId val="70888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3072"/>
        <c:crosses val="autoZero"/>
        <c:auto val="1"/>
        <c:lblAlgn val="ctr"/>
        <c:lblOffset val="100"/>
        <c:noMultiLvlLbl val="0"/>
      </c:catAx>
      <c:valAx>
        <c:axId val="67930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88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27B-16C9-4D3C-8055-384D1110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E3D-E782-4B73-92ED-A647D882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9E5-3618-43FB-9CCF-D1BA58A8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D16-9603-4AD1-8001-7495F19E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72B-DFE0-484B-81A0-F6189AE9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70F-DF96-45FE-A231-8B17F41B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354-9CCF-4AFD-995E-A4850406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8D5-628F-42D1-82B4-1950BE91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4E3-2C3D-49D4-A30C-9E349C0F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912-014A-4E80-8239-2BFFA1E1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ABC-AC04-458A-8F07-8E71777C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D54-B086-4848-BBDC-9976DE89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FCFB0-4778-4481-B6CB-A382CCDF14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