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95959"/>
        <c:axId val="18813420"/>
      </c:barChart>
      <c:catAx>
        <c:axId val="69695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13420"/>
        <c:crosses val="autoZero"/>
        <c:auto val="1"/>
        <c:lblAlgn val="ctr"/>
        <c:lblOffset val="100"/>
        <c:noMultiLvlLbl val="0"/>
      </c:catAx>
      <c:valAx>
        <c:axId val="18813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5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A67-5A8A-4E51-A175-B8BB426F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010-AEAF-4EB7-A756-8D7B51E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38A-4785-41FE-A0E4-E37B15C6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CA5-8BBC-4A1F-A5AC-D33E7079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273-8DD2-472D-AB1F-88E441B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84E-4301-4971-BEA0-CC877A17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BA2-E3AD-4D83-8D07-66EBA964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29F-5DE1-4AED-81CF-813ED0E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88D-A912-486D-91AE-0B590ECF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C3C-4BC2-4788-8645-ED20F49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8A-F447-48C6-A6B9-76B305B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DA4-BCD5-4CFA-B1DA-638CDD4A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E525-3E92-469F-8E51-0A5B145485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