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39580"/>
        <c:axId val="97278781"/>
      </c:barChart>
      <c:catAx>
        <c:axId val="61439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78781"/>
        <c:crosses val="autoZero"/>
        <c:auto val="1"/>
        <c:lblAlgn val="ctr"/>
        <c:lblOffset val="100"/>
        <c:noMultiLvlLbl val="0"/>
      </c:catAx>
      <c:valAx>
        <c:axId val="97278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39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061-B58C-480F-BEB6-9E19E6FF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B9F-E75C-4E7D-BAA9-2C87C726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A14-63CC-4FE2-BA2A-99DA245E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E99-2B50-4419-8E3F-82E190CE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C9D-E2D9-4B8D-AAA7-EE9D2185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ACD-A776-4AB7-9277-D4D946E4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3B4-C6F6-493C-88A0-239C449F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E87-B762-4EA4-8385-82081051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15B-E731-4381-A4E5-41137A7D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0AE-4219-43B6-A3F2-1354FBC6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8B8-1640-460A-9492-A701087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789-8E92-4B83-91C4-DEFFE3E7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4F5E7-BACA-47DE-A1F7-A54B9DDCBB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