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64301"/>
        <c:axId val="97050625"/>
      </c:barChart>
      <c:catAx>
        <c:axId val="737643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50625"/>
        <c:crosses val="autoZero"/>
        <c:auto val="1"/>
        <c:lblAlgn val="ctr"/>
        <c:lblOffset val="100"/>
        <c:noMultiLvlLbl val="0"/>
      </c:catAx>
      <c:valAx>
        <c:axId val="97050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643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B99-753D-43CB-A01D-69C12BD1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A949-C6B4-4EC9-96D0-F1CAC2D3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F35C-236D-4CEA-9716-C326B309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63C0-9DFF-43CE-B73F-6C2D4BBF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6C13-5ED3-4D04-A40B-4C9F43B2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A68-C0B6-4A13-8FDA-67FB5C70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989C-4773-4BE3-BE72-DC8CC99C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69AF-DAC7-46FE-879A-1A0F6956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1D5-9E77-40DF-9E88-A94B5C58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D5E-FBE0-4AAC-9531-CB3C349A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CFA4-A5D9-44F0-86CB-EC25B45A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AB5-AA55-4001-8801-AAA757B9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B5B7E-D2F5-40A5-B5B9-1A7D93DF00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