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31634"/>
        <c:axId val="34283257"/>
      </c:barChart>
      <c:catAx>
        <c:axId val="962316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83257"/>
        <c:crosses val="autoZero"/>
        <c:auto val="1"/>
        <c:lblAlgn val="ctr"/>
        <c:lblOffset val="100"/>
        <c:noMultiLvlLbl val="0"/>
      </c:catAx>
      <c:valAx>
        <c:axId val="34283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316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1C31-4212-45D1-9644-63F128C4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6D8-2143-448F-A088-189D91BD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86B-01AA-4E89-BB3E-9ED25701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4B5F-8BA6-4031-82D4-3F237BD0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0FD-5EB4-490D-9C59-1F2AF579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45F-4D39-4F12-A8BE-4E1C0A31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BE6-A36E-47FB-87EA-0EB37832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4265-E6D4-4C85-BF54-897C0981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BF6B-8719-4C48-9B98-F71012FA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FC9-FF51-414F-9902-4A3AC928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F2B3-634D-477A-9A06-DE7BF3DD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D8C9-88C1-447C-9696-F6E0F268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FBBBA-F4C0-4D40-B413-E7F3F8A1AF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