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35793"/>
        <c:axId val="44290536"/>
      </c:barChart>
      <c:catAx>
        <c:axId val="53435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90536"/>
        <c:crosses val="autoZero"/>
        <c:auto val="1"/>
        <c:lblAlgn val="ctr"/>
        <c:lblOffset val="100"/>
        <c:noMultiLvlLbl val="0"/>
      </c:catAx>
      <c:valAx>
        <c:axId val="44290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35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8B8-4810-462B-A603-6998A49F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EE6-682D-4519-A0D2-373D5B90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FF7-2B9C-4CBE-B2D2-8A8B3855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E4B-5E91-445F-9CE0-28B20C1E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17D-3158-4275-A6CE-1AFF48E4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167-2BB0-4A24-834D-8C7328C0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A0E-F696-4872-B7FC-C934DC27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7A8-1A34-4520-836F-A3ABDAF2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5FE-7C8E-467D-A229-ACA3E6C4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2AB-F613-494C-BCF6-81956899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A1D-40B5-43D4-BFFD-D1E4894A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663-EA95-4E8D-807B-4F8CD83D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2022E-3A47-4E82-8AFE-806294242A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