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88763"/>
        <c:axId val="62155018"/>
      </c:barChart>
      <c:catAx>
        <c:axId val="19688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55018"/>
        <c:crosses val="autoZero"/>
        <c:auto val="1"/>
        <c:lblAlgn val="ctr"/>
        <c:lblOffset val="100"/>
        <c:noMultiLvlLbl val="0"/>
      </c:catAx>
      <c:valAx>
        <c:axId val="62155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88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7DE-49E3-4594-B010-BBE8D837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9A5-3942-4371-B652-7D5594DC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87A-ABA4-40AE-8373-003F4C0B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DC6-9A21-4F5A-AC4E-4FA8AA17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629-5ACF-4A43-9BD0-7AE5575F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95A-D2D9-47BA-AD4E-B94B8D25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F9D-9407-4A93-8A17-720949ED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5F1-89F1-45AD-91BA-38BE8A7B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E67-B0D9-4C8C-9DAA-DEF98BA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A91-2133-488D-B907-DDF35A9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C29-0444-4706-BB04-AE7B33C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F04-8991-4EBF-AFC3-0EB2771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0E67B-6375-48C8-9BF7-658BB8759C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