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11896"/>
        <c:axId val="99862833"/>
      </c:barChart>
      <c:catAx>
        <c:axId val="89811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62833"/>
        <c:crosses val="autoZero"/>
        <c:auto val="1"/>
        <c:lblAlgn val="ctr"/>
        <c:lblOffset val="100"/>
        <c:noMultiLvlLbl val="0"/>
      </c:catAx>
      <c:valAx>
        <c:axId val="99862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11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4CD-4B13-485F-B640-8558FF9C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99E-F65F-4EF6-A2CB-6C0FC62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F6D-9196-4E01-889A-690B3411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BFB-BA36-4DCE-8CD3-2101F56C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471-0A55-41E2-A138-B949DE91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1B0-4F88-4126-9ADE-6A8C8D7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6F7-2270-4F54-AFDD-C1526989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62A-E4CD-40C0-9ADF-685FB05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963-D530-4A34-A931-C71566F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9CF-B69C-4AFF-BBD8-FDFC0BE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C66-BA0B-4CCA-90B2-2F0FD2C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CF8-DCE6-4211-A06B-0F8223B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9FD7A-FB1F-4EB8-9A5B-34D51A034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