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70799"/>
        <c:axId val="16927681"/>
      </c:barChart>
      <c:catAx>
        <c:axId val="36470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7681"/>
        <c:crosses val="autoZero"/>
        <c:auto val="1"/>
        <c:lblAlgn val="ctr"/>
        <c:lblOffset val="100"/>
        <c:noMultiLvlLbl val="0"/>
      </c:catAx>
      <c:valAx>
        <c:axId val="16927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70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2B4-8CC1-4360-879C-511B8DB7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70-211A-48D1-902C-BE6B194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242-BC2E-4187-B494-147307F9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4EB-AA0C-4375-A423-FA0F0EB2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023-B446-434B-BB31-6366256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AFB-BE07-445F-9DFD-EF6E2A6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AC9-F2F6-4D03-850C-C781259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54E-6959-476C-8FD8-620B83F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6F4-2961-4F71-BBEC-1537001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57A-B393-41C5-83CD-4085AFC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243-F633-4B70-86C0-8547C76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7F0-213B-4CF4-8B4B-0DA357C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D505-B4CF-43E5-92C1-85C2F7CC2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