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06876"/>
        <c:axId val="47231272"/>
      </c:barChart>
      <c:catAx>
        <c:axId val="41906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31272"/>
        <c:crosses val="autoZero"/>
        <c:auto val="1"/>
        <c:lblAlgn val="ctr"/>
        <c:lblOffset val="100"/>
        <c:noMultiLvlLbl val="0"/>
      </c:catAx>
      <c:valAx>
        <c:axId val="47231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06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E04-3154-4CB0-A656-6054DD05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069-C68E-4553-80FF-3409D26A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375-A00A-4A26-9247-36CE524B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117-2D68-4623-8E17-10C74BB7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DAF-15CA-4637-B145-78702F55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391-BD0A-4D4C-9D19-1B1DCE0C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8B0-8D83-4A5F-8ED1-315EAFF1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30A-5CD1-4C64-939F-CECA58B9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BA3-A6BE-4709-AFB0-0C478FB8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C99-433F-400D-BE89-A56545EA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412-C0EC-4D98-B4C6-C51F7CAF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3F0-3998-4836-9C1A-17465AB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1AFFE-E4CD-429F-83F0-906C176924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