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70258"/>
        <c:axId val="56444092"/>
      </c:barChart>
      <c:catAx>
        <c:axId val="73670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44092"/>
        <c:crosses val="autoZero"/>
        <c:auto val="1"/>
        <c:lblAlgn val="ctr"/>
        <c:lblOffset val="100"/>
        <c:noMultiLvlLbl val="0"/>
      </c:catAx>
      <c:valAx>
        <c:axId val="564440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70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B6E4-5E55-4CB0-B415-8B24861C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344-286E-417E-8190-D3534F13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B9D1-A11E-417F-BE44-C4FA863C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A7E-9BD6-4F48-A8D8-553F1B80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69D-B72B-4285-8834-60B33F67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8A6F-D4E9-41CF-A541-3D6F56EB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0F1-97E8-452D-822D-9D9227C7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5F8C-F55C-4534-B5E4-E9D4E8E8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5A82-4789-495E-AF9B-2278C76D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47F9-8F3E-4BB8-B113-FF7CA96A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C513-36C2-4B8B-B5F3-D2F55CBB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B1FC-7305-4D0F-9BAE-8C5876C1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B8E01-DBF2-4757-AB7D-E9847D11DD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