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26272"/>
        <c:axId val="98089982"/>
      </c:barChart>
      <c:catAx>
        <c:axId val="52626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89982"/>
        <c:crosses val="autoZero"/>
        <c:auto val="1"/>
        <c:lblAlgn val="ctr"/>
        <c:lblOffset val="100"/>
        <c:noMultiLvlLbl val="0"/>
      </c:catAx>
      <c:valAx>
        <c:axId val="98089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26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1E6-0BAB-4D99-8354-E81573B3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EB6-D033-4A25-AAEF-6197E533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9C7-3140-4A41-A524-E504631B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752-854D-4BEE-9A0E-250294C0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A34-A45E-406D-97E9-29E40011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496-68DE-4B82-B913-6FADB7DF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D89-3085-4E84-8280-0BCA899E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B9E-22D0-4A6C-A717-C47F498D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E96-B171-45EB-BC64-9952C58C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F81-2B98-4D1B-ABD7-6B4DC4EE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FE4-56D5-495C-9DA5-7720C9B4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84F-BA40-420D-924C-7A939F4D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2A323-27CF-44F2-A222-F0228E3405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