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07256"/>
        <c:axId val="9731030"/>
      </c:barChart>
      <c:catAx>
        <c:axId val="68807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1030"/>
        <c:crosses val="autoZero"/>
        <c:auto val="1"/>
        <c:lblAlgn val="ctr"/>
        <c:lblOffset val="100"/>
        <c:noMultiLvlLbl val="0"/>
      </c:catAx>
      <c:valAx>
        <c:axId val="9731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07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130-EBE2-4162-AC48-9C611F4A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199-1F5E-4E4E-A265-7031C09B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DE9-F1B7-442B-B702-95A66643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C15-5476-42DF-8294-727EE0F0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DC7-F4AC-4501-9FBD-98F3A50C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336-CC24-4DB9-BAE9-DCBD8765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3D2-2E4B-4471-AC4F-23EF3B89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63D-CA69-48D7-8418-21FC1352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EF5-9854-4462-BF60-1B2FE798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F88-05F0-404C-9F15-79254A34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C80-5425-4719-B2E2-C4D35AC1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45D-6762-4C57-A7F3-840F0324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FD08D-45A5-4851-BD3E-7C8EC153E3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