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01483"/>
        <c:axId val="88111515"/>
      </c:barChart>
      <c:catAx>
        <c:axId val="75301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1515"/>
        <c:crosses val="autoZero"/>
        <c:auto val="1"/>
        <c:lblAlgn val="ctr"/>
        <c:lblOffset val="100"/>
        <c:noMultiLvlLbl val="0"/>
      </c:catAx>
      <c:valAx>
        <c:axId val="88111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01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5CF-BC69-4C78-85E9-9C1EABB1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8E1-B774-4BFB-B318-AE26DDC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FE0-780A-4155-81D9-55901985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640-2B23-442E-BC53-81971EDD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C1B-78A4-47B5-8586-C27EF054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BBC-8F84-4357-87D6-BD17DD39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F30-AF07-4DDE-A7B5-8C742C6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F2A-B7DA-429D-B21A-13A38646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DCE-E890-464B-B875-C5FDE4BB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909-59C1-4309-91F6-2A7809D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5B0-FA9F-4B0C-8B8C-909F393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449-EDCD-4548-9BD4-147F417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9976A-3F83-45D9-BA1C-39CD7E1FBD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