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08240"/>
        <c:axId val="34699882"/>
      </c:barChart>
      <c:catAx>
        <c:axId val="77008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9882"/>
        <c:crosses val="autoZero"/>
        <c:auto val="1"/>
        <c:lblAlgn val="ctr"/>
        <c:lblOffset val="100"/>
        <c:noMultiLvlLbl val="0"/>
      </c:catAx>
      <c:valAx>
        <c:axId val="34699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08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DB2-5325-4826-84FC-3DB552C2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2DB-0CBB-462F-91A2-84D89EB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733-0CD2-4554-9239-4274E73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820-7548-4DAC-8DFC-6248A4B5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357-29A0-437E-8BCB-5B1A915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018-5592-4D00-9661-1E941F9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9E1-D240-4700-8363-A0DA2A8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4A0-C1AF-4D8A-B255-4D4A3FB6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EBD-F4C5-49CB-8E17-9FFB461A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A81-F8D9-4428-A5F7-E3FD179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4EF-7896-4753-BD8A-13C517D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393-04B2-4164-B0D4-26A4DD5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B7A62-53CC-4878-8AD4-C19E520CD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