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53554"/>
        <c:axId val="11655265"/>
      </c:barChart>
      <c:catAx>
        <c:axId val="89253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55265"/>
        <c:crosses val="autoZero"/>
        <c:auto val="1"/>
        <c:lblAlgn val="ctr"/>
        <c:lblOffset val="100"/>
        <c:noMultiLvlLbl val="0"/>
      </c:catAx>
      <c:valAx>
        <c:axId val="11655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53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EC2-4917-45B0-AFE0-8382C6AD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498-A933-4215-92BD-A021E163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49E-E5E2-4F84-8F5B-6A8C8B62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0D6-8AE9-4303-8201-6F0ABF92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F35-274F-416E-906C-BD3F6DEB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5E4-A79B-4A42-9C9B-F5272B85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90A-9E69-4DF1-B198-EB3A953D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C9FF-1DC7-49E1-BF6F-851633A2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E96-7569-4A1F-8380-08980FFA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8C5-87E0-4F11-95B8-38C86DEC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71E-2AF5-453D-9CB1-D8B398B2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593-6E66-40C1-A7B4-68F93A01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0F42E-8551-49AC-9BA1-7F0ADCDB4C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