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09012"/>
        <c:axId val="92646511"/>
      </c:barChart>
      <c:catAx>
        <c:axId val="18509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46511"/>
        <c:crosses val="autoZero"/>
        <c:auto val="1"/>
        <c:lblAlgn val="ctr"/>
        <c:lblOffset val="100"/>
        <c:noMultiLvlLbl val="0"/>
      </c:catAx>
      <c:valAx>
        <c:axId val="92646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9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5D2-2D57-4B73-984B-E941108E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3BC-4C0B-4FE6-935A-FFA4089C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9D0-FC47-4CA5-A3F2-97678C55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893-333A-4139-B4F5-896C5AA6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A8E-6C0B-436C-8E4D-D20AB426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2E5-E993-4A7E-8E12-CE632F3E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063-F7D3-49A4-8C67-5E1C56A4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537-8724-4BAE-8050-36CD462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2A7-F815-42E5-A036-2471DA9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B3F-CFD8-449D-B945-E266284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55F-B6C4-4E92-A1D4-721B325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2AC-600C-4C20-BDF9-919FB98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38EA0-70C7-40AD-8E3D-3C5E4776A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