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34517"/>
        <c:axId val="69060995"/>
      </c:barChart>
      <c:catAx>
        <c:axId val="606345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60995"/>
        <c:crosses val="autoZero"/>
        <c:auto val="1"/>
        <c:lblAlgn val="ctr"/>
        <c:lblOffset val="100"/>
        <c:noMultiLvlLbl val="0"/>
      </c:catAx>
      <c:valAx>
        <c:axId val="690609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345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8D7-917E-4706-B11F-28F931FF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5140-BB42-4942-A334-3B5CA5C2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E14D-AF0C-47AF-973F-3410A2B1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CEB4-3C0A-492A-941D-524389EC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0E5-CD67-4394-87C8-C87B6740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9EA-C538-4751-B6BE-F2838E0C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F409-17C6-4D6F-84B7-B29DA6A1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675-FFC1-475C-AEAE-579125EC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3F2-8DB6-48C3-A510-A069578D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1260-A5AA-4E85-B81C-3F25B37E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EB79-06FC-4318-BE7B-32A97D60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664-B0BD-497A-BB6D-097FB3D5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EF7B4-3BB5-40F6-8B9E-5DCC33D34C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