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3348100"/>
        <c:axId val="71783201"/>
      </c:barChart>
      <c:catAx>
        <c:axId val="2334810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783201"/>
        <c:crosses val="autoZero"/>
        <c:auto val="1"/>
        <c:lblAlgn val="ctr"/>
        <c:lblOffset val="100"/>
        <c:noMultiLvlLbl val="0"/>
      </c:catAx>
      <c:valAx>
        <c:axId val="7178320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34810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BA3CD-4716-4093-BA0B-4457EEA34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48B46-7561-4AB4-81A3-D1C4E24B7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F934B-6C12-455C-9BF9-78607FC55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9C041-2B74-4019-9D58-895E5AFE0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DD079-AF8C-43E1-B8EA-19F54C583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F5197-C474-461A-9A3E-1AD1B32D7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C2EEE-DE23-445C-A994-F8F933066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376DE-76FE-4983-AE6A-547BF3F62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6442E-1F7A-45E8-AEE9-BDD3C9C44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81D8E-5EDD-4FD0-A79E-80FD68C42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67576-53EA-4312-B283-706AE3F02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40149-5B3A-4202-92BA-E76C02DC6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0FC701-E299-4438-9063-E2F28B48CCD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