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86672"/>
        <c:axId val="32136724"/>
      </c:barChart>
      <c:catAx>
        <c:axId val="97786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36724"/>
        <c:crosses val="autoZero"/>
        <c:auto val="1"/>
        <c:lblAlgn val="ctr"/>
        <c:lblOffset val="100"/>
        <c:noMultiLvlLbl val="0"/>
      </c:catAx>
      <c:valAx>
        <c:axId val="32136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86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57C-F932-48AB-BFFF-3782AF42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6E3-E1D3-418D-96A5-0C7B0E3F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4A6-E774-49A3-83D2-64D4F73B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99F4-E3A2-4E5A-AF43-BA0D35C1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D08-CB6E-48F5-9EBC-E078887C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99EA-7847-4FE7-8B44-4E7A2C67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5A9-F3DA-4B03-8927-D35DE64F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35D-901F-4547-9F77-BC5BACDC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47B6-3CD4-44C9-B3D4-586524F8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2AC-F438-494F-BD1D-B17485CB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F5F-7711-430F-BCB5-B47B4A7A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EA8-D569-497A-B21A-16681587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230B1-9569-49D1-8C9D-E84B8BC048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