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655050"/>
        <c:axId val="32772190"/>
      </c:barChart>
      <c:catAx>
        <c:axId val="316550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772190"/>
        <c:crosses val="autoZero"/>
        <c:auto val="1"/>
        <c:lblAlgn val="ctr"/>
        <c:lblOffset val="100"/>
        <c:noMultiLvlLbl val="0"/>
      </c:catAx>
      <c:valAx>
        <c:axId val="327721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6550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5377-3534-423A-9395-35073A5E5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03ED-3891-4FDA-A487-2DF2775BA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1544-8EB1-4233-815F-A33E90A7C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B30B-02B7-42B0-8DC7-E9A9A2247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3909-A35A-4E5F-9D47-51C6F5A4A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BD73-FC3D-4C35-86CB-B81721456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F397-7045-4BA4-ACAF-FE407EC81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8A02-C0AE-42D1-AE38-3D66D5A6A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1933-3143-477A-8066-2CC3D8E1A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4C29-63A7-4B2C-AB34-434A311E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CA5B-C0FF-4677-90B7-3686CB71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BAD6-6D60-4ED6-A70C-00D35820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A553A8-7C4C-4853-9BE9-4C92F17630F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