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515681"/>
        <c:axId val="26183968"/>
      </c:barChart>
      <c:catAx>
        <c:axId val="825156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83968"/>
        <c:crosses val="autoZero"/>
        <c:auto val="1"/>
        <c:lblAlgn val="ctr"/>
        <c:lblOffset val="100"/>
        <c:noMultiLvlLbl val="0"/>
      </c:catAx>
      <c:valAx>
        <c:axId val="261839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156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F56F-235F-4860-83DF-12DB9A77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FCC2-F9A8-41A0-8EC2-DB0D2362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D545-DF6F-4593-B015-ADF573CD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8C7D-2AD0-493F-A8F8-C24C17D8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63C2-14C0-4860-96F2-0B9830A1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4C8D-E409-43E9-8D62-1018C35C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35F-A651-42E1-BC44-2DC7467E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E2F3-1481-42EE-84F1-43B6164A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043B-E332-42F4-B73B-67EBF311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33FC-CA28-4026-9859-884CD883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F328-F6E0-4B98-AF72-2DD19EF1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DB35-D321-4D29-84B1-70394E86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A0DBF-AED8-428F-AF47-2D010AC5C2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