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35156"/>
        <c:axId val="56878178"/>
      </c:barChart>
      <c:catAx>
        <c:axId val="41935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8178"/>
        <c:crosses val="autoZero"/>
        <c:auto val="1"/>
        <c:lblAlgn val="ctr"/>
        <c:lblOffset val="100"/>
        <c:noMultiLvlLbl val="0"/>
      </c:catAx>
      <c:valAx>
        <c:axId val="56878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35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017-1D51-438B-8498-FFA1411C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ACA-F60C-467E-A30D-47512993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3DA-F527-479E-8F84-CE097098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CF8-7438-4466-99EA-51229D8D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672-CDCD-48D4-BBA0-CBB4FC9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E7B-A527-40C3-8FC9-880FEE75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95E-DD91-45A4-8D4F-F20D93F9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027-15EA-4F28-83ED-DE99220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BF8-3C40-4971-9E51-7513ED3E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0F5-91F3-4D8B-87FF-E0275FEA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A86-8143-4063-95B5-F9E79DB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FF4-B395-4425-9876-DE5FBB7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77B90-0ACE-4F67-9DBE-C631FF234F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