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81628"/>
        <c:axId val="48774814"/>
      </c:barChart>
      <c:catAx>
        <c:axId val="39181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74814"/>
        <c:crosses val="autoZero"/>
        <c:auto val="1"/>
        <c:lblAlgn val="ctr"/>
        <c:lblOffset val="100"/>
        <c:noMultiLvlLbl val="0"/>
      </c:catAx>
      <c:valAx>
        <c:axId val="48774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81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162-31ED-41AA-B932-A14F86A6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64D-4351-4C50-AE17-C610C5D8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4869-005E-4784-81C7-5C2BE821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578B-AD9C-40F4-933C-751FCF55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4E77-DC52-4EB6-A090-5C7A3643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8C6C-3B80-48E1-97E1-69176320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0A0E-E909-4295-821A-BF05E8BD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CF8-A17D-4302-B5CC-E93DA632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0781-1C8A-4FB2-A152-165AA758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ED72-C156-488A-93BB-356699F1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1BE-D839-4D09-A3E9-078DBCD3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1344-DA76-4A81-B6CA-E14243DF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82943-EA52-4EC7-A51B-FFD80C4ACD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