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964811"/>
        <c:axId val="48183610"/>
      </c:barChart>
      <c:catAx>
        <c:axId val="389648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183610"/>
        <c:crosses val="autoZero"/>
        <c:auto val="1"/>
        <c:lblAlgn val="ctr"/>
        <c:lblOffset val="100"/>
        <c:noMultiLvlLbl val="0"/>
      </c:catAx>
      <c:valAx>
        <c:axId val="481836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9648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7E3-D30A-4FFA-AA70-9D12A9B9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E11-5119-404F-A127-851E7DE3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79A3-AEB5-4D8C-8099-CE3B0544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D169-9000-41A4-9E5C-183CB4B9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A182-EA0B-4656-9561-DD050CCA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541-CC17-4573-975A-BD7531E3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BE55-293E-4340-8390-3F42C674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67E0-AE32-42BA-B954-7DA2AD78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FE80-1A98-4D2B-9184-0A3C4190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1F90-B903-45AC-804F-FF14876C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676D-C4E4-4C24-A257-005BFC0A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6539-4D45-44A1-9F67-A5629D68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4A4E5-2FB3-4AE6-9BCF-8DD46754C5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